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25D-95B7-46A9-B2A0-9CF3886F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88F-CBD2-4DC3-83B3-9ADF02FD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F8E-D79D-41D2-BC76-09F12A51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6E9-DA74-495B-819D-7516D91D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23E-6D63-46ED-81CD-15A47168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2FF-9CD6-4B2C-A15A-016BCF2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980-C0AD-46AF-AA11-1C897E42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B6D-B6B5-4CC8-A953-477A57A7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7C1-743A-488C-A672-84EE4216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460-DECD-4975-AA03-2F4EC6A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580-46D9-4E7F-9584-722AB25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313-410C-4DA7-9185-274948D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F8131-D9A4-4E1D-8C57-D7EED3BC6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284c"/>
                </a:solidFill>
                <a:latin typeface="Arial"/>
              </a:rPr>
              <a:t>16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284c"/>
                </a:solidFill>
                <a:latin typeface="Arial"/>
              </a:rPr>
              <a:t>The Other Sid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284c"/>
                </a:solidFill>
                <a:latin typeface="Arial"/>
              </a:rPr>
              <a:t>American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G. Juvenile Delinquenc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Anti-social or criminal behavior from tee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Reasons give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Pop cul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Divorce ra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Lack of relig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. Rebelling against par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School thought to be the fi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13 million increase in enroll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Increase in math and science class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0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H. Detent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30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relaxation of tensions between the US and it's two major Communist rivals: China and the Soviet Un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eveloped by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ixon and Henry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issinger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138400"/>
            <a:ext cx="4132080" cy="475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43720" y="503280"/>
            <a:ext cx="2544840" cy="3857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16680" y="3627360"/>
            <a:ext cx="312876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0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I. Nixon goes to Chin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1. Purpos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To establish more normal relations between the countries. Also to persuade Soviets to go towards democrac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668840" cy="43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0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4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2. Outcom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1828800"/>
            <a:ext cx="41068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Relations between the US and China had eased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US and Soviet Union held a summit and agreed on a plan (SALT I) to limit the nuclear arms each country had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Tensions were eased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Lesson Objectiv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The students will be able to explain the causes and effects for the decline of the inner cit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The students will be able to discuss the         problems faced by the African Americans,      Native Americans, etc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The students will be able to explain what        Americans thought created juvenile delinquency. And what could fix i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8220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. Poverty Admits Prosperit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1. 1 in 5, 30 million, Americans were below the poverty lin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2. Groups that faced the most problems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. African American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b. Hispanic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. Native American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. Rural American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68220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. Decline of the Inner Citi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Middle class families leave the cities, so does their tax mone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Urban Renew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Tear down slums and   create affordable               hous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Problem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Residents stayed           poor; kicked out if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y had to much              mone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Overall did not wor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32360" y="2286000"/>
            <a:ext cx="4440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. African American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1960, 3 million African Americans migrated to the Nort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Racial discrimin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Last hired, first fir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Stuck in poor paying         job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</a:t>
            </a:r>
            <a:r>
              <a:rPr b="0" i="1" lang="en-US" sz="2600" spc="-1" strike="noStrike">
                <a:solidFill>
                  <a:srgbClr val="333333"/>
                </a:solidFill>
                <a:latin typeface="Arial"/>
              </a:rPr>
              <a:t>A Raisin in the Su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Play about a working        class African American famil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22840" y="2138400"/>
            <a:ext cx="31323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0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D. Hispanic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Bracero Program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5 million Mexicans            brought in to work on            farms and field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Temp. work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Many left but                    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50,000 settled in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U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Got little pay and lived in terrible condi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214880" cy="43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. Native American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Poorest group in          the n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Termination Polic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Subjected to             same laws as the      whi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Told to 'blend in'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Policy did not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214880" cy="45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0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. Appalach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New York to Georg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. Mechanization of mining brought unemploy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. Poor health due to lack  of docto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. Lack of proper educ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fill="hold">
                      <p:stCondLst>
                        <p:cond delay="0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0:52:22Z</dcterms:created>
  <dc:creator>Courtney Huro</dc:creator>
  <dc:description/>
  <dc:language>en-US</dc:language>
  <cp:lastModifiedBy>School District U46</cp:lastModifiedBy>
  <dcterms:modified xsi:type="dcterms:W3CDTF">2011-03-15T19:23:12Z</dcterms:modified>
  <cp:revision>5</cp:revision>
  <dc:subject/>
  <dc:title>Slide 1</dc:title>
</cp:coreProperties>
</file>